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20F-6677-4131-A25D-EAE08BA6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C2D-5256-4D24-89BD-AED18125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049-27A5-4595-815D-127B1E92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550-28D7-4D9B-9ADB-023002C7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E70-A7D3-46B5-9965-5BEF86A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B4D-76FB-40EA-8178-B56E42A4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5C5-7830-45E2-981B-29482764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A85-64EC-41C6-B3B0-0D748CD3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60DB-1DD9-4E2D-8D50-CB34065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163-D5BC-4F62-980F-BF95696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224-4968-4512-BFE6-1565043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4BE-FAE1-4BBD-82FA-0B8305D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98b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5F97-FF67-4547-B09A-E4B10581DE30}" type="slidenum">
              <a:rPr b="0" lang="it-IT" sz="1200" spc="-1" strike="noStrike">
                <a:solidFill>
                  <a:srgbClr val="8998b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oian%20Mitov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tov@mitov.com" TargetMode="External"/><Relationship Id="rId3" Type="http://schemas.openxmlformats.org/officeDocument/2006/relationships/hyperlink" Target="http://www.mitov.com/" TargetMode="External"/><Relationship Id="rId4" Type="http://schemas.openxmlformats.org/officeDocument/2006/relationships/hyperlink" Target="http://www.openwire.org/" TargetMode="External"/><Relationship Id="rId5" Type="http://schemas.openxmlformats.org/officeDocument/2006/relationships/hyperlink" Target="http://www.igdiplus.org/" TargetMode="External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90"/>
                </a:solidFill>
                <a:latin typeface="Calibri"/>
              </a:rPr>
              <a:t>Video and Audio processing with Delph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Boian Mitov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Mitov Software</a:t>
            </a:r>
            <a:br>
              <a:rPr sz="3200"/>
            </a:br>
            <a:r>
              <a:rPr b="0" lang="fi-FI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ownsampled frame forma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Usually YUV format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2 to 1 X or Y or XY down sampling of one or 2 channels.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lanar or packed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graphicFrame>
        <p:nvGraphicFramePr>
          <p:cNvPr id="483" name="Segnaposto testo 2"/>
          <p:cNvGraphicFramePr/>
          <p:nvPr/>
        </p:nvGraphicFramePr>
        <p:xfrm>
          <a:off x="3564000" y="3054240"/>
          <a:ext cx="292428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Segnaposto tes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054240"/>
                    <a:ext cx="29242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udio characteristic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ample rate( 8000, 11025, 22050, 44100…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Number of channels( 1, 2,…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Bits per channel( 8, 16, 24, 32 …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indows Multimedia SD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Win32 API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Win32 SDK, deprecat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X DirectSound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X DirectShow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X DMO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Windows Media Encoder API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Show Editing Services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in32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Video For Windows API (VFW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Wave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IDI 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Auxiliary API(CD Players etc.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ixer 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ultimedia Input and Output API (MMIO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edia Control Interface API (MCI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Timers 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Other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X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Draw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direct access to drawing surfac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3D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3D rendering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Sound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Direct access to the audio buffers and hardwa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Input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Keboard, Mouse, Joystick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Play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Multiplayer Comunica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Setup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Installation API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Show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esigned for streaming video and audi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Originally part of Direct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Graph Architectu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indows Media Encoder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esigned for ASF files encoding, playback and broadcas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Sound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esigned for low latency 3D sound effect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art of Direct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argeting mainly game developmen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3th Party Solution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Helix (Real Player) – recording, compression and playback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Quick Time – recording and playback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FreeFrame – video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VirtualDub – video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AVISynth – video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Vorbis, and Speex – compression recording and playback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Live555 – streaming serve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Intel IPP – Signal and Image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Many more…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Show Demo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ideo Player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apture Bitmaps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ideo Capture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udio Capture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Video and Audio Tas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Capture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captures from a devic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sends to a device (Screen, Speaker etc.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Record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stores to a fil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Playback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plays from fil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performs processing over the stream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Analyze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analyzes the stream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Compress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compresses or decompresses the stream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Broadcast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sends the stream over IP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SPack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ee Open Source projec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tains DirectShow header translation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irectShow SDK base classes translation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CL Component wrappers for Graph, Sink, Source filter and mo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Not supported (Last build 2003, last commit 2006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Processing Audio Demo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erforming FIR filte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07" name="Segnaposto testo 2" descr=""/>
          <p:cNvPicPr/>
          <p:nvPr/>
        </p:nvPicPr>
        <p:blipFill>
          <a:blip r:embed="rId2"/>
          <a:stretch/>
        </p:blipFill>
        <p:spPr>
          <a:xfrm>
            <a:off x="2340000" y="2781360"/>
            <a:ext cx="4038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Processing Video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erforming BOX filte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10" name="Segnaposto testo 2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763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bout the Speak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Boian Mitov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resident of Mitov Software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Mitov Software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URL: </a:t>
            </a: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www.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Product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deoLab – Vide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AudioLab – Audi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SignalLab – Digital signal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sionLab – Basic computer vis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lotLab – Data visualiz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InstrumentLab – Visual instrument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libraries maintained by Mitov Softwar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www.openwire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OpenWire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www.igdiplus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IGDI+ library ( Delphi friendly GDI+ library )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Video characteristic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ame size 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ame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ame rat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spect rati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olor Spac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RGB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HL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HSV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YUV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LUV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XYZ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YCbC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YCC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CIELab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RGB Color Spa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68" name="Segnaposto testo 2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47530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HSV Color Spa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0" name="Segnaposto testo 2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6201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HSL Color Spa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2" name="Segnaposto testo 2" descr=""/>
          <p:cNvPicPr/>
          <p:nvPr/>
        </p:nvPicPr>
        <p:blipFill>
          <a:blip r:embed="rId2"/>
          <a:stretch/>
        </p:blipFill>
        <p:spPr>
          <a:xfrm>
            <a:off x="2503440" y="1600200"/>
            <a:ext cx="4137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Video frame formats by color space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Gray Scal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RGB/BGR (8 bit palette, 555, 565, 24 bit, 32 bit etc.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RGB(RGBA, BGRA, etc.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YUV (AI44, AYUV, IYUV, NV11, NV12, UYVY, Y41P, YUY2, etc. 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Planar and packed frame forma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acked formats – All the color data is in a single buffer.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lanar format – each color component is in a separated buffer.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7" name="Segnaposto testo 2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2016000" cy="1952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427640" y="3645000"/>
            <a:ext cx="223200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3280" y="3860640"/>
            <a:ext cx="2232360" cy="194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4076640"/>
            <a:ext cx="223200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9:45:58Z</dcterms:created>
  <dc:creator> </dc:creator>
  <dc:description/>
  <dc:language>en-US</dc:language>
  <cp:lastModifiedBy>Boian Mitov</cp:lastModifiedBy>
  <dcterms:modified xsi:type="dcterms:W3CDTF">2009-11-18T18:33:51Z</dcterms:modified>
  <cp:revision>46</cp:revision>
  <dc:subject/>
  <dc:title>Diapositiva 1</dc:title>
</cp:coreProperties>
</file>