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29E-14B9-4B0A-AD12-EF76C8CA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DEB-648E-440E-8398-D2F6A955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1E7-3CB3-462D-ABEC-DDEF7703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2B6-3AA8-41A8-B6CC-655E72D2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0E3-D42D-4148-9F1D-40B76547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466-0F4F-4B5B-9CFD-CCF700F9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457-1905-4751-8FB6-B37BF3E4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C96-49C3-46D2-BC97-06FBA78F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15A-3EB4-4026-A1CE-37A598A1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666-DEC8-45DA-BEE7-D1CF606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870-1DDD-41F8-8E45-0974FFE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D4C-C00C-474C-98EC-F6E6734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953-11E4-4E94-8920-7E4B9110BB1F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90"/>
                </a:solidFill>
                <a:latin typeface="Calibri"/>
              </a:rPr>
              <a:t>Developing multithreaded applications with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Other synchronization method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WaitFor threa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vent (Including Kernel Events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WaitForMultipleObject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elphi threading objec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Thread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Event/TSimpleEvent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CriticalSect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Mutex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Semaphore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ConditionVariableCS/TConditionVariableMutex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MultiReadExclusiveWriteSynchronize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TThreadList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ystem.TMonito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Interlocked* function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ynchronize method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eadlocking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read A has lock1 and tries to acces lock2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read B has lock2 and tries to acces lock1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threads a lock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Rules for using loc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cquire locks in the same order from all thread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Keep only one thread at a tim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Keep locks for a short period as possibl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e lock to make a local (per thread) copy of the shared resource, and unlock it (Local cache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ccessing UI from a thread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the Synchronize metho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a shared data, and send message to the main threa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Notification between thread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events to notify threa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messag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conditional variabl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shared resources/variabl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hread componen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BMDThread component set – www.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Examples of MT architectur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Dedicating a thread to communication (Serial/USB/Network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Using a thread for slow background processe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solating thread in component/clas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Splitting a task between threads to utilize multicore (multithread for loop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Separating the application by thread per task to utilize multicor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Enclose the shared resources and the lock in clas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Thread pools (to reduce the create/destroy time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ebugging MT application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Naming thread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utting thread specific breakpoin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Logging information per thread contex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he future of multithreading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assive multicore system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ulti processor system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tilizing the GPU (CUDA/OpenCL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uster computers(IBM Roadrunner)/Grid comput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rver farm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oud comput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2P computing/BOING(seti@home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at is multithreading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xecuting multiple threads (functions) at the same tim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an be real (multiple cores) or simulated (timeshare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Nvidia Tesla GPU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960 core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$1299.00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~4 Terra FLOP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99" name="Segnaposto testo 2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48308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omputer farm(CERN)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01" name="Segnaposto testo 2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832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IBM Roadrunner cluster supercomputer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03" name="Segnaposto testo 2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832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Silicon Graphics Cluster supercomputer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05" name="Segnaposto testo 2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214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Simulated multithreading techniques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alling ProcessMessages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event driven state machines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y use multithreading?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When running long processing and want to have UI available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When waiting for slow hardware or process to complete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y not to use ProcessMessag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reates danger of infinite recursion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revents the application from closing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xecutes slower than multithreading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ften creates a more complex code than multithreading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Multithreading myth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readed applications are slow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readed applications are more comple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readed applications offer benefits only on multicore system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Sharing resources and conflic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ultiple thread can read a resource with no conflict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f one or more threads try to modify a resource while others read it there will be a conflic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When multiple threads try to modify a resource, there will be conflic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at resources need locks?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Boolean values do not need loc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ny other shared resource needs loc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multiprocessor systems do not guarantee that anything other than Boolean will be processed as atomic operation!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Locking and types of loc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flicts are resolved trough temporary locking of the resourc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mapho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ute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ritical Sec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MultiReadSingleWrit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nterlocked* func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dition Variables (In Vista and up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08T03:21:22Z</dcterms:modified>
  <cp:revision>57</cp:revision>
  <dc:subject/>
  <dc:title>Diapositiva 1</dc:title>
</cp:coreProperties>
</file>