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028-7830-478F-8CD4-5FBB82BA3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808-74E5-45F2-9CE1-938F9EAA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DF3-DA1E-41F9-8142-AA5D22313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8220-63D6-4BFD-8CF9-DEE11053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FE93-23D8-4B74-8E29-2A434E0F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AD0-0349-4679-8AE8-8284F04C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A0A-C13B-4F47-B7DB-1E754448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086-D2FD-4AAB-ABAE-1F7A94B6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2B7-BBDE-4531-A49A-AB9A9E98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CC4F-B61B-4C04-9A05-F381A7D7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FBF-D64C-41BF-9599-A15B73F4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50E-B916-4A41-83D5-D859250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D107-C05F-47D0-8886-5CE2B460302A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gdiplus.org/" TargetMode="External"/><Relationship Id="rId3" Type="http://schemas.openxmlformats.org/officeDocument/2006/relationships/hyperlink" Target="https://sourceforge.net/projects/igdiplus/" TargetMode="External"/><Relationship Id="rId4" Type="http://schemas.openxmlformats.org/officeDocument/2006/relationships/hyperlink" Target="https://sourceforge.net/projects/igdiplus/" TargetMode="External"/><Relationship Id="rId5" Type="http://schemas.openxmlformats.org/officeDocument/2006/relationships/hyperlink" Target="https://sourceforge.net/projects/igdiplus/" TargetMode="External"/><Relationship Id="rId6" Type="http://schemas.openxmlformats.org/officeDocument/2006/relationships/hyperlink" Target="https://igdiplus.svn.sourceforge.net/svnroot/igdiplus" TargetMode="External"/><Relationship Id="rId7" Type="http://schemas.openxmlformats.org/officeDocument/2006/relationships/hyperlink" Target="https://igdiplus.svn.sourceforge.net/svnroot/igdiplus" TargetMode="External"/><Relationship Id="rId8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elphi friendly GDI+ with the free open source IGDI+ library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at is GDI+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Replaces GDI as the recommended graphics library in Windows 2000 and up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bject oriented, and way more powerful than GDI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lower than GDI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es with .NET and C++ class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Included undocumented DLL functions for other languag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Using GDI+ in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the low level undocumented GDI+ API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one of the GDI+ transla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Using IGDI+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y use IGDI+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All objects are accessed trough interfaces and are automatically released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Allows inplace creating of objects as parameter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Designed as Domain Specific Language (Most functions return instance of the object)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Uses Delphi arrays as parameter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All errors are handled by exception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Implements IGPTransformable for any applicable object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Implements drawing with Brush and Pen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Uses events instead of function callback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Integrates directly with TCanvas, TBitmap, TIcon, TFont etc.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Compatible with Delphi 5 to Delphi 2010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Results in very small code even for very complex graphic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available on SourceForg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Main IGDI+ interfac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Graphics –the main graphics objec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Pen - pen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SolidBrush – brush with colo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LinearGradientBrush – brush with linear gradien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PathGradientBrush – brush with path gradien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HatchBrush – hatched brush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TextureBrush – textured brush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GraphicsPath – a graphics path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IGPFont – fon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here is IGDI+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www.igdiplus.org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the IGDI+ sit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https://</a:t>
            </a: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sourceforge.net/projects/igdiplus</a:t>
            </a: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/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- the SourceForge pag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6"/>
              </a:rPr>
              <a:t>https://</a:t>
            </a:r>
            <a:r>
              <a:rPr b="0" lang="en-US" sz="3200" spc="-1" strike="noStrike" u="sng">
                <a:solidFill>
                  <a:srgbClr val="860dff"/>
                </a:solidFill>
                <a:uFillTx/>
                <a:latin typeface="Calibri"/>
                <a:hlinkClick r:id="rId7"/>
              </a:rPr>
              <a:t>igdiplus.svn.sourceforge.net/svnroot/igdiplus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the Subversion repository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08T03:21:20Z</dcterms:modified>
  <cp:revision>22</cp:revision>
  <dc:subject/>
  <dc:title>Diapositiva 1</dc:title>
</cp:coreProperties>
</file>