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9EB-A087-4C59-8ACA-A4F3CE49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784-36C0-4A6E-B2F2-E893D57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08E-792D-4DDE-B783-B6ED2381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275-6C8C-45B7-892F-67FDE20D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234-6B51-4C74-9947-99EA483D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A00-5BE0-4CF1-9AE9-DF83DD0F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930-699C-4526-A36C-9C711301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845-5B3B-4E27-B5D6-A50D7B6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306-09FD-493C-9E5E-FC232E95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7A3-15BC-4EEB-92B2-C8813C72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874-7684-4B10-84E6-B601801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8E0-B868-4781-8458-6D98B6EB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98b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C645-859D-4481-918F-84E2E8F3FF8B}" type="slidenum">
              <a:rPr b="0" lang="it-IT" sz="1200" spc="-1" strike="noStrike">
                <a:solidFill>
                  <a:srgbClr val="8998b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oian%20Mitov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itov@mitov.com" TargetMode="External"/><Relationship Id="rId3" Type="http://schemas.openxmlformats.org/officeDocument/2006/relationships/hyperlink" Target="http://www.mitov.com/" TargetMode="External"/><Relationship Id="rId4" Type="http://schemas.openxmlformats.org/officeDocument/2006/relationships/hyperlink" Target="http://www.openwire.org/" TargetMode="External"/><Relationship Id="rId5" Type="http://schemas.openxmlformats.org/officeDocument/2006/relationships/hyperlink" Target="http://www.igdiplus.org/" TargetMode="External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390"/>
                </a:solidFill>
                <a:latin typeface="Calibri"/>
              </a:rPr>
              <a:t>Computer Vision with Delph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Boian Mitov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Mitov Software</a:t>
            </a:r>
            <a:br>
              <a:rPr sz="3200"/>
            </a:br>
            <a:r>
              <a:rPr b="0" lang="fi-FI" sz="32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Other Hough algorithm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robable line segment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Hough circl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Robust feature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ost popular method – SURF (Speeded Up Robust Features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Robust feature is easily distinguishable element of the image (A dot in text, a corner of building etc.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an be used to find objects in different images taken from different angles etc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SURF application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3D reconstruc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Object detection/recogni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erging multiple images into panoramic view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any more…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3D reconstruction with SURF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nd the closest match for a descriptor in each imag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air them togethe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ssuming the position of the camera is known, triangulate the distance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390"/>
                </a:solidFill>
                <a:latin typeface="Calibri"/>
              </a:rPr>
              <a:t>Object recognition with Haar detector</a:t>
            </a:r>
            <a:endParaRPr b="0" lang="en-US" sz="40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Viola-Jones object detection framework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es Viola-Jones featur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es cascade of classifier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Each classifier is used only if the previous succeed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Each is trained on Haar object of different siz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Viola-Jones feature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88" name="Segnaposto testo 2" descr=""/>
          <p:cNvPicPr/>
          <p:nvPr/>
        </p:nvPicPr>
        <p:blipFill>
          <a:blip r:embed="rId2"/>
          <a:stretch/>
        </p:blipFill>
        <p:spPr>
          <a:xfrm>
            <a:off x="2371680" y="1600200"/>
            <a:ext cx="4400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bout the Speaker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Boian Mitov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resident of Mitov Software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Mitov Software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URL: </a:t>
            </a: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3"/>
              </a:rPr>
              <a:t>www.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Product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deoLab – Vide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AudioLab – Audi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SignalLab – Digital signal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sionLab – Basic computer vis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lotLab – Data visualiz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InstrumentLab – Visual instrument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Free open source libraries maintained by Mitov Software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4"/>
              </a:rPr>
              <a:t>www.openwire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OpenWire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5"/>
              </a:rPr>
              <a:t>www.igdiplus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IGDI+ library ( Delphi friendly GDI+ library )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hat is computer vision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e science and technology of machines that see. (According to Wikipedia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Types of computer vision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otion/event detection/recogni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eature extrac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Object tracking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cene reconstruction/3D reconstruc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Image restora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any more…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Motion detection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ubtract the 2 sequential frames in grayscal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ivide the view in matrix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unt the number of differences in each cell of the matrix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If the value in any cell is bigger than a threshold there is mo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onnected components labeling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tarts with Black and White imag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tarts with initial colo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rocesses one pixel at the time from the top left corne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If is reaches white area fills the white area with a color, then increments the colo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ntinues until the whole image is proces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Edge detection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High Pass 2D filte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Adaptive Threshol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Canny filte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daptive Threshold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nvert to gray scal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erform a Gauss or Box filte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r each pixel subtract the filtered value from GrayScale valu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If the result is above some level, the result is white, otherwise black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Hough Line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tart with extracted edg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e defined distance from center step and angle step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r each pixel for each distance from center step and for each angle step, count how many points belong to the lin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e higher the number of points that belong to a line, the more likely they really form a lin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HoghLines example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76" name="Segnaposto testo 2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6201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9:45:58Z</dcterms:created>
  <dc:creator> </dc:creator>
  <dc:description/>
  <dc:language>en-US</dc:language>
  <cp:lastModifiedBy>Boian Mitov</cp:lastModifiedBy>
  <dcterms:modified xsi:type="dcterms:W3CDTF">2009-11-08T03:21:23Z</dcterms:modified>
  <cp:revision>28</cp:revision>
  <dc:subject/>
  <dc:title>Diapositiva 1</dc:title>
</cp:coreProperties>
</file>