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690B4-0749-4D2F-97F0-5362AC70B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306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9A12-BD76-4809-97A3-076EA7C6A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306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7306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B7F5F-2C10-4891-A7A6-1C4F73F94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5420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5420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306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7306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7306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E99BE-19D5-4DE4-A903-4DD96FE94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2816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306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AF6C-B3DB-4429-83C2-A27C29677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3520" y="37306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06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7306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7306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3520" y="37306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280" y="165420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1360" y="165420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7306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280" y="37306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1360" y="37306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7BDB0-D98C-4CFA-957F-965D29B3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40679-58CA-4544-AAD4-D5FB80D4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A83B9-E3DC-48BF-BE52-01103EE7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EB2F6-3F24-428D-B789-0884E1B7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C7879-F8C4-4D2F-83AB-32E8FCBC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2D0B4-27DD-4016-B8AD-27B29D8810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2816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BDEC1-852A-4E30-B570-0345CB19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306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1565F-D0F7-4F08-83BC-0BF4B12C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3520" y="37306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FFADE-9968-4EFF-BF32-9CE10D9D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306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EB16C-E5A2-43E4-AE6A-84AB27BB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7306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B39C6-06DF-4D12-BBE6-F6CB4408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7306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3520" y="37306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EA3C7-77AE-48A0-AFEA-7260D1ED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280" y="165420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1360" y="165420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7306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280" y="37306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1360" y="37306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A40AB-21D8-4D8F-BAE3-F6DA51B3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3DCC-2B36-40B1-8863-38E167452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A060-AE44-4B72-9FBB-50A0573BA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2816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C230B-E0F0-47F7-A424-6710B734D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306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453B-3D60-4311-86CD-2B4F66154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7306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F1495-2639-459C-BA27-0A66AB370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5420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306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0DA8-57C5-44C1-9AA1-4DD763704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988" t="15117" r="988" b="71525"/>
          <a:stretch/>
        </p:blipFill>
        <p:spPr>
          <a:xfrm>
            <a:off x="0" y="54000"/>
            <a:ext cx="9144000" cy="2588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98200" y="6315120"/>
            <a:ext cx="549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© Embarcadero Technologies 2013 – all rights re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41360" y="6268680"/>
            <a:ext cx="77616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3A4BB0-4E31-4F8B-AF9E-2449D45CA37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"/>
          <p:cNvSpPr/>
          <p:nvPr/>
        </p:nvSpPr>
        <p:spPr>
          <a:xfrm>
            <a:off x="7065360" y="30240"/>
            <a:ext cx="20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EMBARCADERO TECHNOLOG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184880" y="6346800"/>
            <a:ext cx="1648080" cy="228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-10080" y="22320"/>
            <a:ext cx="347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aiandra GD"/>
              </a:rPr>
              <a:t>CodeRage™ 8    You Rock. You Rule. You 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988" t="15117" r="988" b="71525"/>
          <a:stretch/>
        </p:blipFill>
        <p:spPr>
          <a:xfrm>
            <a:off x="0" y="54000"/>
            <a:ext cx="9144000" cy="25884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6" name=""/>
          <p:cNvSpPr/>
          <p:nvPr/>
        </p:nvSpPr>
        <p:spPr>
          <a:xfrm>
            <a:off x="0" y="0"/>
            <a:ext cx="9144000" cy="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7065360" y="30240"/>
            <a:ext cx="20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EMBARCADERO TECHNOLOG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84880" y="6346800"/>
            <a:ext cx="1648080" cy="228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10080" y="22320"/>
            <a:ext cx="347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aiandra GD"/>
              </a:rPr>
              <a:t>CodeRage™ 8    You Rock. You Rule. You R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163600" y="0"/>
            <a:ext cx="6980400" cy="6858000"/>
          </a:xfrm>
          <a:prstGeom prst="rect">
            <a:avLst/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160"/>
            <a:ext cx="2193840" cy="6858000"/>
          </a:xfrm>
          <a:prstGeom prst="rect">
            <a:avLst/>
          </a:prstGeom>
          <a:gradFill rotWithShape="0">
            <a:gsLst>
              <a:gs pos="0">
                <a:srgbClr val="595959"/>
              </a:gs>
              <a:gs pos="100000">
                <a:srgbClr val="0d0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rcRect l="494" t="23761" r="494" b="23761"/>
          <a:stretch/>
        </p:blipFill>
        <p:spPr>
          <a:xfrm>
            <a:off x="0" y="55440"/>
            <a:ext cx="9144000" cy="1009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956280" y="428760"/>
            <a:ext cx="1905120" cy="263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45880" y="23796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aiandra GD"/>
              </a:rPr>
              <a:t>CodeRage™ 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20196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Rock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Rule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 R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8160" cy="7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5420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3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90658-3F98-4875-9D73-5D1FCFEEE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itov@mitov.com" TargetMode="External"/><Relationship Id="rId2" Type="http://schemas.openxmlformats.org/officeDocument/2006/relationships/hyperlink" Target="http://www.mitov.com/" TargetMode="External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mitov@mitov.com" TargetMode="External"/><Relationship Id="rId2" Type="http://schemas.openxmlformats.org/officeDocument/2006/relationships/hyperlink" Target="http://www.mitov.com/" TargetMode="External"/><Relationship Id="rId3" Type="http://schemas.openxmlformats.org/officeDocument/2006/relationships/hyperlink" Target="http://www.openwire.org/" TargetMode="External"/><Relationship Id="rId4" Type="http://schemas.openxmlformats.org/officeDocument/2006/relationships/hyperlink" Target="http://www.igdiplus.org/" TargetMode="External"/><Relationship Id="rId5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440" y="3657240"/>
            <a:ext cx="61038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unctional Programm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Boian Mi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Mitov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itov@mitov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itov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Pascal lik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imple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to declaration of interface, class and creation of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y hello to anonymous method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he data flow not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parallel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reading made eas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capture context by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olved with generic nested or Captur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mitations of anonymous method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out the Speak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9360" y="1279440"/>
            <a:ext cx="795492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90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ian Mitov - President of Mitov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"/>
              </a:rPr>
              <a:t>mitov@mitov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08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ov Software -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itov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08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1564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VideoLab – Video processing 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1564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AudioLab – Audio processing 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1564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ignalLab – Digital signal processing 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1564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VisionLab – Computer vision 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1564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lotLab – Data visualization 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1564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nstrumentLab – Visual instrumentation 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1564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ntelligenceLab – Artificial intelligence 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1564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LogicLab – Boolean logic 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1564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omunicationLab – Serial and Ethernet communication 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1564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AnimationLab – Universal animation 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1564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Visual Live Binding – Universal visual live binding 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1564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OpenWire Studio – Graphical development environment for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1564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Visuino – Graphical development environment for Ardui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08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open source libraries maintained by Mitov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1564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3"/>
              </a:rPr>
              <a:t>www.openwire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– The OpenWire 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15640">
              <a:lnSpc>
                <a:spcPct val="80000"/>
              </a:lnSpc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908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4"/>
              </a:rPr>
              <a:t>www.igdiplus.o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– The IGDI+ library ( Delphi friendly GDI+ library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+ Data Structures =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 the beginning.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ph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+ Objects =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big bang.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al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s =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quiet revolution.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65420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you want, not how to achie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 for parallel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ly shorter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mai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vantages of the functional programm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 Fibonacci numbers, functional 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 describe an infinite list based on the recurrence relation for Fibonacci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Recurrence first second = first : fibRecurrence second (first + seco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 describe fibonacci list as fibRecurrence with initial values 0 a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onacci = fibRecurrence 0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 describe action to print the 10th element of the fibonacci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= print (fibonacci !!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re Functional Programming Langu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include &lt;algorith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include &lt;cmat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abssort(float* x, unsigned n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ort(x, x + 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Lambda expression be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](float a, float b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(std::abs(a) &lt; std::abs(b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 // end of lambda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onymous metho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9412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C# Lamb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gate int del(int 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 void Main(string[] ar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 myDelegate = x =&gt; x *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j = myDelegate(5); //j =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mbda Express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1631520"/>
            <a:ext cx="82296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By Valy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int i = 0; i &lt; 2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os.push_back([i](int x) -&gt;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cout &lt;&lt; i &lt;&lt; std::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By Re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int i = 0; i &lt; 2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os.push_back([&amp;i](int x) -&gt;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cout &lt;&lt; i &lt;&lt; std::end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0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onymous methods Capt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3:38:03Z</dcterms:created>
  <dc:creator>Boian Mitov</dc:creator>
  <dc:description/>
  <dc:language>en-US</dc:language>
  <cp:lastModifiedBy/>
  <dcterms:modified xsi:type="dcterms:W3CDTF">2015-10-30T04:22:05Z</dcterms:modified>
  <cp:revision>132</cp:revision>
  <dc:subject/>
  <dc:title>RAD STUDIO IN THE ENTERPRISE</dc:title>
</cp:coreProperties>
</file>