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1C4-475B-4375-B4F2-1DEADF58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E43-51A3-4FFE-8B58-90DE8A5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E16-9188-45C2-A353-41BFD5A5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2E0-2C12-42F0-BC75-74962769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F73-D229-4D87-A21F-539260F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E07-7A2D-48EB-86F4-88D90084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548-E339-4E3B-B3AB-980095F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634-ECC3-48AB-8237-D2DD24B5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2F4-F79A-437C-8103-4EBF052F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50D-BCF9-47DE-B5EF-26A6D79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2D7-F1DE-4511-A9F0-A603099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066-AD3E-40E6-82B0-3678207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0BC-CC48-4DA4-9DCC-75DA54081A4B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90"/>
                </a:solidFill>
                <a:latin typeface="Calibri"/>
              </a:rPr>
              <a:t>Implementing Artificial Intelligence with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I Classifier Application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PAM filter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Computer vis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OC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peech recognit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Diagnostic utilitie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Industrial control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Investment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Code formatt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Gesture recognit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Robotic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Game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Function approximat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Hardware Neural Networks</a:t>
            </a:r>
            <a:br>
              <a:rPr sz="4000"/>
            </a:b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CogniMem chip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1024 neurons in parallel on a chip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Learn and recognize patterns of up to 256 bytes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Classify patterns into up to 32,768 categories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Automatic adaptive model generator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Choice of Radial Basis Function (RBF) or K-Nearest Neighbor (KNN) classifier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Ability to interconnect multiple chips with a simple bus of 28 lines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22" name="Segnaposto testo 2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295960" y="49417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http://general-vision.com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ypes of Artificial Intelligen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Expert systems (Early 80s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lanning engin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assifier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assifiers and feature extractor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eatures are extracted from the data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features are passed to classifi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e classifier detects conditions based on the featur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5" name=""/>
          <p:cNvSpPr/>
          <p:nvPr/>
        </p:nvSpPr>
        <p:spPr>
          <a:xfrm>
            <a:off x="2838600" y="4834080"/>
            <a:ext cx="1523880" cy="914400"/>
          </a:xfrm>
          <a:prstGeom prst="rect">
            <a:avLst/>
          </a:prstGeom>
          <a:solidFill>
            <a:srgbClr val="ae9638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Feature</a:t>
            </a:r>
            <a:br>
              <a:rPr sz="1800"/>
            </a:b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extractor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00160" y="4822920"/>
            <a:ext cx="1301760" cy="914400"/>
          </a:xfrm>
          <a:prstGeom prst="ellipse">
            <a:avLst/>
          </a:prstGeom>
          <a:solidFill>
            <a:srgbClr val="ae9638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53040" y="4849920"/>
            <a:ext cx="1560600" cy="914400"/>
          </a:xfrm>
          <a:prstGeom prst="rect">
            <a:avLst/>
          </a:prstGeom>
          <a:solidFill>
            <a:srgbClr val="c1ceeb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classifier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11280" y="5276880"/>
            <a:ext cx="435240" cy="144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54560" y="4995720"/>
            <a:ext cx="78084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63920" y="5148360"/>
            <a:ext cx="78120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63920" y="5300640"/>
            <a:ext cx="78120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63920" y="5452920"/>
            <a:ext cx="78120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63920" y="5605560"/>
            <a:ext cx="78120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005360"/>
            <a:ext cx="1447920" cy="457200"/>
          </a:xfrm>
          <a:prstGeom prst="wedgeRoundRectCallout">
            <a:avLst>
              <a:gd name="adj1" fmla="val -62717"/>
              <a:gd name="adj2" fmla="val 164930"/>
              <a:gd name="adj3" fmla="val 16667"/>
            </a:avLst>
          </a:prstGeom>
          <a:solidFill>
            <a:srgbClr val="ae9638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Features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07160" y="4995720"/>
            <a:ext cx="78120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16880" y="5148360"/>
            <a:ext cx="78084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16880" y="5300640"/>
            <a:ext cx="78084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16880" y="5452920"/>
            <a:ext cx="78084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16880" y="5605560"/>
            <a:ext cx="780840" cy="0"/>
          </a:xfrm>
          <a:prstGeom prst="line">
            <a:avLst/>
          </a:prstGeom>
          <a:ln w="9360">
            <a:solidFill>
              <a:srgbClr val="0053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20000" y="4005360"/>
            <a:ext cx="1447560" cy="457200"/>
          </a:xfrm>
          <a:prstGeom prst="wedgeRoundRectCallout">
            <a:avLst>
              <a:gd name="adj1" fmla="val -62171"/>
              <a:gd name="adj2" fmla="val 164583"/>
              <a:gd name="adj3" fmla="val 16667"/>
            </a:avLst>
          </a:prstGeom>
          <a:solidFill>
            <a:srgbClr val="c1ceeb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Conditions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38600" y="4834080"/>
            <a:ext cx="1523880" cy="914400"/>
          </a:xfrm>
          <a:prstGeom prst="rect">
            <a:avLst/>
          </a:prstGeom>
          <a:solidFill>
            <a:srgbClr val="c1ceeb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Feature</a:t>
            </a:r>
            <a:br>
              <a:rPr sz="1800"/>
            </a:b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extractor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0160" y="4822920"/>
            <a:ext cx="1301760" cy="914400"/>
          </a:xfrm>
          <a:prstGeom prst="ellipse">
            <a:avLst/>
          </a:prstGeom>
          <a:solidFill>
            <a:srgbClr val="c1ceeb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16360" y="4005360"/>
            <a:ext cx="1447920" cy="457200"/>
          </a:xfrm>
          <a:prstGeom prst="wedgeRoundRectCallout">
            <a:avLst>
              <a:gd name="adj1" fmla="val -62717"/>
              <a:gd name="adj2" fmla="val 164930"/>
              <a:gd name="adj3" fmla="val 16667"/>
            </a:avLst>
          </a:prstGeom>
          <a:solidFill>
            <a:srgbClr val="c1ceeb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  <a:ea typeface="Arial"/>
              </a:rPr>
              <a:t>Features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ypes of classifier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Neural networks (including Perceptron)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Naïve(Normal) Baye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Hidden Markov model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Kernel Method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upport vector machine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k-nearest neighbor algorithm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Mixture model (including Gaussian mixture model)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Decision tree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Linear Classifie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elf Organizing Maps(including Growing self-organizing maps)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Generative Topographic Map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Neural Networ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mulates the way the brain works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sists of neurons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eedforward or Recurrent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ually uses backpropagation to train.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Feedforward Neural Network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89" name="Segnaposto testo 2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33336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Neuron (with Sigmoid function)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979640" y="3645000"/>
            <a:ext cx="4680000" cy="1601640"/>
            <a:chOff x="1979640" y="3645000"/>
            <a:chExt cx="4680000" cy="1601640"/>
          </a:xfrm>
        </p:grpSpPr>
        <p:sp>
          <p:nvSpPr>
            <p:cNvPr id="492" name=""/>
            <p:cNvSpPr/>
            <p:nvPr/>
          </p:nvSpPr>
          <p:spPr>
            <a:xfrm>
              <a:off x="3853080" y="411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39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539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84720" y="411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39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539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979640" y="3645000"/>
              <a:ext cx="4680000" cy="1601640"/>
              <a:chOff x="1979640" y="3645000"/>
              <a:chExt cx="4680000" cy="1601640"/>
            </a:xfrm>
          </p:grpSpPr>
          <p:sp>
            <p:nvSpPr>
              <p:cNvPr id="495" name=""/>
              <p:cNvSpPr/>
              <p:nvPr/>
            </p:nvSpPr>
            <p:spPr>
              <a:xfrm>
                <a:off x="5796000" y="4479840"/>
                <a:ext cx="863640" cy="0"/>
              </a:xfrm>
              <a:prstGeom prst="line">
                <a:avLst/>
              </a:prstGeom>
              <a:ln w="9360">
                <a:solidFill>
                  <a:srgbClr val="0053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39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979640" y="3645000"/>
                <a:ext cx="3816360" cy="1601640"/>
                <a:chOff x="1979640" y="3645000"/>
                <a:chExt cx="3816360" cy="16016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356000" y="4048200"/>
                  <a:ext cx="1440000" cy="865080"/>
                </a:xfrm>
                <a:prstGeom prst="rect">
                  <a:avLst/>
                </a:prstGeom>
                <a:solidFill>
                  <a:srgbClr val="c1ceeb"/>
                </a:solidFill>
                <a:ln w="9360">
                  <a:solidFill>
                    <a:srgbClr val="0053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5390"/>
                      </a:solidFill>
                      <a:latin typeface="Arial"/>
                    </a:rPr>
                    <a:t>F(u)</a:t>
                  </a:r>
                  <a:endParaRPr b="0" lang="en-US" sz="1800" spc="-1" strike="noStrike">
                    <a:solidFill>
                      <a:srgbClr val="00539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1979640" y="3645000"/>
                  <a:ext cx="2376360" cy="1601640"/>
                  <a:chOff x="1979640" y="3645000"/>
                  <a:chExt cx="2376360" cy="16016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706920" y="4479840"/>
                    <a:ext cx="649080" cy="0"/>
                  </a:xfrm>
                  <a:prstGeom prst="line">
                    <a:avLst/>
                  </a:prstGeom>
                  <a:ln w="9360">
                    <a:solidFill>
                      <a:srgbClr val="00539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539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1979640" y="3645000"/>
                    <a:ext cx="1728720" cy="1601640"/>
                    <a:chOff x="1979640" y="3645000"/>
                    <a:chExt cx="1728720" cy="1601640"/>
                  </a:xfrm>
                </p:grpSpPr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1979640" y="3645000"/>
                      <a:ext cx="1728720" cy="1123920"/>
                      <a:chOff x="1979640" y="3645000"/>
                      <a:chExt cx="1728720" cy="112392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1979640" y="4479840"/>
                        <a:ext cx="1152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539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539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3" name=""/>
                      <p:cNvGrpSpPr/>
                      <p:nvPr/>
                    </p:nvGrpSpPr>
                    <p:grpSpPr>
                      <a:xfrm>
                        <a:off x="2298600" y="3645000"/>
                        <a:ext cx="1409760" cy="1123920"/>
                        <a:chOff x="2298600" y="3645000"/>
                        <a:chExt cx="1409760" cy="1123920"/>
                      </a:xfrm>
                    </p:grpSpPr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>
                          <a:off x="3132000" y="4192560"/>
                          <a:ext cx="576360" cy="576360"/>
                        </a:xfrm>
                        <a:prstGeom prst="ellipse">
                          <a:avLst/>
                        </a:prstGeom>
                        <a:solidFill>
                          <a:srgbClr val="c1ceeb"/>
                        </a:solidFill>
                        <a:ln w="9360">
                          <a:solidFill>
                            <a:srgbClr val="00539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5390"/>
                              </a:solidFill>
                              <a:latin typeface="Arial"/>
                            </a:rPr>
                            <a:t>+</a:t>
                          </a:r>
                          <a:endParaRPr b="0" lang="en-US" sz="1800" spc="-1" strike="noStrike">
                            <a:solidFill>
                              <a:srgbClr val="00539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2298600" y="3645000"/>
                          <a:ext cx="885960" cy="66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539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539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68720" y="4633920"/>
                      <a:ext cx="930240" cy="612720"/>
                    </a:xfrm>
                    <a:prstGeom prst="line">
                      <a:avLst/>
                    </a:prstGeom>
                    <a:ln w="9360">
                      <a:solidFill>
                        <a:srgbClr val="00539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539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07" name=""/>
          <p:cNvSpPr/>
          <p:nvPr/>
        </p:nvSpPr>
        <p:spPr>
          <a:xfrm>
            <a:off x="1981440" y="32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8920" y="424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16200" y="5032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84360" y="3573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W1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97080" y="4148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W2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68360" y="4653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Arial"/>
              </a:rPr>
              <a:t>W3</a:t>
            </a: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pic>
        <p:nvPicPr>
          <p:cNvPr id="513" name="Segnaposto testo 2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Naïve Bayes Classifi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Simple probabilistic classifier based on applying Bayes' theorem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Assumes that the features are independent from each othe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Very efficient when trained in supervised environment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Requires relatively small amount of training data to produce good result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Produces very good overall results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p(C|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2,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…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) = p(C) * p(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2,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…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|C ) / p(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2,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…,F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C – condition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F – feature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p - probability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Training the Naïve Bayes Classifi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rain with data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e validation data to optimize the Laplace smooth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est the classifier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07T18:13:21Z</dcterms:modified>
  <cp:revision>25</cp:revision>
  <dc:subject/>
  <dc:title>Diapositiva 1</dc:title>
</cp:coreProperties>
</file>